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752120" y="3816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8344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828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4444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75212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14828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54444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752120" y="76320"/>
            <a:ext cx="7086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8344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" Target="slide3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67000" y="4343400"/>
            <a:ext cx="1371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2560" y="6588000"/>
            <a:ext cx="245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69696"/>
                </a:solidFill>
                <a:latin typeface="Arial"/>
              </a:rPr>
              <a:t>Copyright 2008 The McGraw-Hill Compan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60480" y="6553080"/>
            <a:ext cx="63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-</a:t>
            </a:r>
            <a:fld id="{F0135574-572E-4FE3-99E2-E978FF402B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14800" y="1371600"/>
            <a:ext cx="5029200" cy="5486400"/>
            <a:chOff x="4114800" y="1371600"/>
            <a:chExt cx="5029200" cy="5486400"/>
          </a:xfrm>
        </p:grpSpPr>
        <p:sp>
          <p:nvSpPr>
            <p:cNvPr id="7" name=""/>
            <p:cNvSpPr/>
            <p:nvPr/>
          </p:nvSpPr>
          <p:spPr>
            <a:xfrm>
              <a:off x="4267080" y="6629400"/>
              <a:ext cx="487692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5400" y="1523880"/>
              <a:ext cx="0" cy="533412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114800" y="6705720"/>
              <a:ext cx="502920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91720" y="1371600"/>
              <a:ext cx="0" cy="548640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 txBox="1"/>
          <p:nvPr/>
        </p:nvSpPr>
        <p:spPr>
          <a:xfrm>
            <a:off x="1219320" y="685800"/>
            <a:ext cx="27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" name=""/>
          <p:cNvSpPr txBox="1"/>
          <p:nvPr/>
        </p:nvSpPr>
        <p:spPr>
          <a:xfrm>
            <a:off x="152280" y="74520"/>
            <a:ext cx="144792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Chap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" name=""/>
          <p:cNvSpPr/>
          <p:nvPr/>
        </p:nvSpPr>
        <p:spPr>
          <a:xfrm>
            <a:off x="76320" y="1265400"/>
            <a:ext cx="15872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Significance of Resource Pr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rginal Productivity Theory of Resource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RP as Resource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rket Demand for a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ccupational Employmen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lasticity of Resource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timal Combin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rginal Productivity Theory of Income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st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7" action="ppaction://hlinksldjump"/>
          </p:cNvPr>
          <p:cNvSpPr/>
          <p:nvPr/>
        </p:nvSpPr>
        <p:spPr>
          <a:xfrm>
            <a:off x="24480" y="56530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Key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>
            <a:hlinkClick r:id="" action="ppaction://hlinkshowjump?jump=endshow"/>
          </p:cNvPr>
          <p:cNvSpPr/>
          <p:nvPr/>
        </p:nvSpPr>
        <p:spPr>
          <a:xfrm>
            <a:off x="28080" y="61117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52280" y="55627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52280" y="64771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52280" y="60199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>
            <a:hlinkClick r:id="" action="ppaction://hlinkshowjump?jump=endshow"/>
          </p:cNvPr>
          <p:cNvSpPr/>
          <p:nvPr/>
        </p:nvSpPr>
        <p:spPr>
          <a:xfrm>
            <a:off x="990720" y="60958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22373" y="10800"/>
                </a:moveTo>
                <a:lnTo>
                  <a:pt x="11868" y="17806"/>
                </a:lnTo>
                <a:lnTo>
                  <a:pt x="11868" y="3794"/>
                </a:lnTo>
                <a:close/>
              </a:path>
              <a:path fill="darken" w="37749" h="21600">
                <a:moveTo>
                  <a:pt x="24219" y="3794"/>
                </a:moveTo>
                <a:lnTo>
                  <a:pt x="24219" y="17806"/>
                </a:lnTo>
                <a:lnTo>
                  <a:pt x="25881" y="17806"/>
                </a:lnTo>
                <a:lnTo>
                  <a:pt x="2588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>
            <a:hlinkClick r:id="rId8" action="ppaction://hlinksldjump"/>
          </p:cNvPr>
          <p:cNvSpPr/>
          <p:nvPr/>
        </p:nvSpPr>
        <p:spPr>
          <a:xfrm>
            <a:off x="990720" y="56386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3794"/>
                </a:moveTo>
                <a:lnTo>
                  <a:pt x="25881" y="10800"/>
                </a:lnTo>
                <a:lnTo>
                  <a:pt x="1186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5/origin_of_the_idea.htm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highered.mcgraw-hill.com/sites/0073126632/student_view0/chapter25/origin_of_the_idea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5/worked_problems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highered.mcgraw-hill.com/sites/0073126632/student_view0/chapter25/worked_problems.html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5/origin_of_the_idea.htm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highered.mcgraw-hill.com/sites/0073126632/student_view0/chapter25/origin_of_the_idea.html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5/worked_problems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highered.mcgraw-hill.com/sites/0073126632/student_view0/chapter25/worked_problems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03680" y="304920"/>
            <a:ext cx="2161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660033"/>
                </a:solidFill>
                <a:latin typeface="Times New Roman"/>
              </a:rPr>
              <a:t>25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8520" y="3924360"/>
            <a:ext cx="580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Dem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or Resou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4572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725" b="0"/>
          <a:stretch/>
        </p:blipFill>
        <p:spPr>
          <a:xfrm>
            <a:off x="5537160" y="539640"/>
            <a:ext cx="282888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31960" y="1042920"/>
            <a:ext cx="7078680" cy="689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88760" y="87480"/>
            <a:ext cx="7235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ccupational Employment Tre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72560" y="1136520"/>
            <a:ext cx="35748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0033"/>
                </a:solidFill>
                <a:latin typeface="Arial"/>
              </a:rPr>
              <a:t>10 Fastest Growing U.S. Occup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0033"/>
                </a:solidFill>
                <a:latin typeface="Arial"/>
              </a:rPr>
              <a:t>In Percentage Terms, 2004 - 20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44480" y="2590920"/>
            <a:ext cx="209088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 Health A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Communications An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l Assis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ian Assis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 Engineer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Therapist Assis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tal Hygien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 Engineers,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tal Assis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 Home Care A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658160" y="1727280"/>
            <a:ext cx="3627720" cy="855360"/>
            <a:chOff x="1658160" y="1727280"/>
            <a:chExt cx="3627720" cy="855360"/>
          </a:xfrm>
        </p:grpSpPr>
        <p:sp>
          <p:nvSpPr>
            <p:cNvPr id="329" name=""/>
            <p:cNvSpPr/>
            <p:nvPr/>
          </p:nvSpPr>
          <p:spPr>
            <a:xfrm>
              <a:off x="1658160" y="2290680"/>
              <a:ext cx="1086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ccup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10920" y="1727280"/>
              <a:ext cx="10965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loy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ous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f Jo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92200" y="2290680"/>
              <a:ext cx="546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0160" y="2290680"/>
              <a:ext cx="546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1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80760" y="2149560"/>
              <a:ext cx="100512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re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75000" y="2262240"/>
              <a:ext cx="95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348000" y="2614680"/>
            <a:ext cx="43668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55960" y="2614680"/>
            <a:ext cx="43668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52920" y="2614680"/>
            <a:ext cx="48708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84320" y="1047600"/>
            <a:ext cx="319068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0033"/>
                </a:solidFill>
                <a:latin typeface="Arial"/>
              </a:rPr>
              <a:t>10 Most Rapidly Declining U.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0033"/>
                </a:solidFill>
                <a:latin typeface="Arial"/>
              </a:rPr>
              <a:t>Occup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0033"/>
                </a:solidFill>
                <a:latin typeface="Arial"/>
              </a:rPr>
              <a:t>In Percentage Terms, 2004 - 20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53120" y="2587680"/>
            <a:ext cx="193968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er Readers, Ut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tile Machine Ope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Authorizers, Checkers, &amp; Cle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lroad Brake, Signal, &amp; Switch Ope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ling Cle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wing Machine Ope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phone Ope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 Cle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uter Ope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tographic Pro-cessing Machine Ope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321880" y="1724040"/>
            <a:ext cx="3628080" cy="855360"/>
            <a:chOff x="5321880" y="1724040"/>
            <a:chExt cx="3628080" cy="855360"/>
          </a:xfrm>
        </p:grpSpPr>
        <p:sp>
          <p:nvSpPr>
            <p:cNvPr id="341" name=""/>
            <p:cNvSpPr/>
            <p:nvPr/>
          </p:nvSpPr>
          <p:spPr>
            <a:xfrm>
              <a:off x="5321880" y="2287440"/>
              <a:ext cx="1086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ccup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4640" y="1724040"/>
              <a:ext cx="10965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loy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ous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f Jo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56280" y="2287440"/>
              <a:ext cx="546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64240" y="2287440"/>
              <a:ext cx="546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1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44840" y="2146320"/>
              <a:ext cx="100512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re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39080" y="2259000"/>
              <a:ext cx="95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709640" y="1039680"/>
            <a:ext cx="7089840" cy="5185080"/>
            <a:chOff x="1709640" y="1039680"/>
            <a:chExt cx="7089840" cy="5185080"/>
          </a:xfrm>
        </p:grpSpPr>
        <p:sp>
          <p:nvSpPr>
            <p:cNvPr id="348" name=""/>
            <p:cNvSpPr/>
            <p:nvPr/>
          </p:nvSpPr>
          <p:spPr>
            <a:xfrm>
              <a:off x="1709640" y="2593800"/>
              <a:ext cx="708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62480" y="1039680"/>
              <a:ext cx="0" cy="518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012080" y="2600280"/>
            <a:ext cx="43668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520040" y="2600280"/>
            <a:ext cx="43668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66600" y="2600280"/>
            <a:ext cx="53748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608520" y="6377040"/>
            <a:ext cx="229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Bureau of Labor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65000" y="87480"/>
            <a:ext cx="743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Elasticity of Resource Demand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52120" y="21067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Ease of Resource Substitutability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Elasticity of Product Demand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Ratio of Resource Cost to Total Cost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125080" y="1030320"/>
            <a:ext cx="6529680" cy="874440"/>
            <a:chOff x="2125080" y="1030320"/>
            <a:chExt cx="6529680" cy="874440"/>
          </a:xfrm>
        </p:grpSpPr>
        <p:sp>
          <p:nvSpPr>
            <p:cNvPr id="357" name=""/>
            <p:cNvSpPr/>
            <p:nvPr/>
          </p:nvSpPr>
          <p:spPr>
            <a:xfrm>
              <a:off x="2125080" y="1117440"/>
              <a:ext cx="1250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66080" y="1030320"/>
              <a:ext cx="518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rcentage Change in Resource 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70920" y="1493640"/>
              <a:ext cx="47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rcentage Change in Resource Pr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94160" y="1465200"/>
              <a:ext cx="513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8097120" y="1928880"/>
            <a:ext cx="717120" cy="694440"/>
            <a:chOff x="8097120" y="1928880"/>
            <a:chExt cx="717120" cy="694440"/>
          </a:xfrm>
        </p:grpSpPr>
        <p:pic>
          <p:nvPicPr>
            <p:cNvPr id="36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48680" y="1928880"/>
              <a:ext cx="4633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>
              <a:hlinkClick r:id="rId3"/>
            </p:cNvPr>
            <p:cNvSpPr/>
            <p:nvPr/>
          </p:nvSpPr>
          <p:spPr>
            <a:xfrm>
              <a:off x="8097120" y="23162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25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52120" y="100080"/>
            <a:ext cx="72262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mal Combination of Resour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52120" y="1223640"/>
            <a:ext cx="70866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7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The Least-Cost Rul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Least-Cost Combination of Resource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774800" y="3943440"/>
            <a:ext cx="6837120" cy="1429200"/>
            <a:chOff x="1774800" y="3943440"/>
            <a:chExt cx="6837120" cy="1429200"/>
          </a:xfrm>
        </p:grpSpPr>
        <p:sp>
          <p:nvSpPr>
            <p:cNvPr id="367" name=""/>
            <p:cNvSpPr/>
            <p:nvPr/>
          </p:nvSpPr>
          <p:spPr>
            <a:xfrm>
              <a:off x="1940400" y="3965760"/>
              <a:ext cx="2670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rginal Produ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f Labor (MP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60120" y="4862520"/>
              <a:ext cx="2831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ce of Labor (P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64680" y="3943440"/>
              <a:ext cx="2670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rginal Produ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f Capital (MP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90080" y="4859280"/>
              <a:ext cx="3021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ce of Capital (P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74800" y="4813560"/>
              <a:ext cx="300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00880" y="4810320"/>
              <a:ext cx="300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70520" y="45007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52120" y="100080"/>
            <a:ext cx="72262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mal Combination of Resour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52120" y="1228680"/>
            <a:ext cx="7086600" cy="26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he Profit-Maximizing Rul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P (Resource)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Resource)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Profit Maximizing Combination of Resource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827440" y="5121360"/>
            <a:ext cx="5113080" cy="1242360"/>
            <a:chOff x="2827440" y="5121360"/>
            <a:chExt cx="5113080" cy="1242360"/>
          </a:xfrm>
        </p:grpSpPr>
        <p:sp>
          <p:nvSpPr>
            <p:cNvPr id="377" name=""/>
            <p:cNvSpPr/>
            <p:nvPr/>
          </p:nvSpPr>
          <p:spPr>
            <a:xfrm>
              <a:off x="3101040" y="5121360"/>
              <a:ext cx="1227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7120" y="5715000"/>
              <a:ext cx="595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99360" y="5121360"/>
              <a:ext cx="1253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15440" y="5715000"/>
              <a:ext cx="621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27440" y="5735880"/>
              <a:ext cx="177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27920" y="5732640"/>
              <a:ext cx="179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70640" y="54230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12160" y="5419800"/>
              <a:ext cx="82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054880" y="4038480"/>
            <a:ext cx="6472800" cy="648720"/>
            <a:chOff x="2054880" y="4038480"/>
            <a:chExt cx="6472800" cy="648720"/>
          </a:xfrm>
        </p:grpSpPr>
        <p:grpSp>
          <p:nvGrpSpPr>
            <p:cNvPr id="386" name=""/>
            <p:cNvGrpSpPr/>
            <p:nvPr/>
          </p:nvGrpSpPr>
          <p:grpSpPr>
            <a:xfrm>
              <a:off x="2054880" y="4038480"/>
              <a:ext cx="2386080" cy="648720"/>
              <a:chOff x="2054880" y="4038480"/>
              <a:chExt cx="2386080" cy="648720"/>
            </a:xfrm>
          </p:grpSpPr>
          <p:sp>
            <p:nvSpPr>
              <p:cNvPr id="387" name=""/>
              <p:cNvSpPr/>
              <p:nvPr/>
            </p:nvSpPr>
            <p:spPr>
              <a:xfrm>
                <a:off x="3213360" y="4038480"/>
                <a:ext cx="1227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MRP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054880" y="4038480"/>
                <a:ext cx="595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57600" y="403848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5905800" y="4038480"/>
              <a:ext cx="2621880" cy="648720"/>
              <a:chOff x="5905800" y="4038480"/>
              <a:chExt cx="2621880" cy="648720"/>
            </a:xfrm>
          </p:grpSpPr>
          <p:sp>
            <p:nvSpPr>
              <p:cNvPr id="391" name=""/>
              <p:cNvSpPr/>
              <p:nvPr/>
            </p:nvSpPr>
            <p:spPr>
              <a:xfrm>
                <a:off x="7274160" y="4038480"/>
                <a:ext cx="1253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MRP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905800" y="4038480"/>
                <a:ext cx="621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19760" y="403848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4638240" y="4064040"/>
              <a:ext cx="81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33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8083440" y="5916600"/>
            <a:ext cx="746280" cy="710280"/>
            <a:chOff x="8083440" y="5916600"/>
            <a:chExt cx="746280" cy="710280"/>
          </a:xfrm>
        </p:grpSpPr>
        <p:pic>
          <p:nvPicPr>
            <p:cNvPr id="396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172360" y="5916600"/>
              <a:ext cx="519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>
              <a:hlinkClick r:id="rId3"/>
            </p:cNvPr>
            <p:cNvSpPr/>
            <p:nvPr/>
          </p:nvSpPr>
          <p:spPr>
            <a:xfrm>
              <a:off x="8083440" y="631980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 25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30520" y="97920"/>
            <a:ext cx="71928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ginal Productivity Theory of Income Distrib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Inequality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Market Imperfections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8097120" y="1050840"/>
            <a:ext cx="717120" cy="694440"/>
            <a:chOff x="8097120" y="1050840"/>
            <a:chExt cx="717120" cy="694440"/>
          </a:xfrm>
        </p:grpSpPr>
        <p:pic>
          <p:nvPicPr>
            <p:cNvPr id="401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48680" y="1050840"/>
              <a:ext cx="4633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>
              <a:hlinkClick r:id="rId3"/>
            </p:cNvPr>
            <p:cNvSpPr/>
            <p:nvPr/>
          </p:nvSpPr>
          <p:spPr>
            <a:xfrm>
              <a:off x="8097120" y="143820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25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" descr=""/>
          <p:cNvPicPr/>
          <p:nvPr/>
        </p:nvPicPr>
        <p:blipFill>
          <a:blip r:embed="rId4"/>
          <a:srcRect l="0" t="1224" r="0" b="0"/>
          <a:stretch/>
        </p:blipFill>
        <p:spPr>
          <a:xfrm>
            <a:off x="2001960" y="2475000"/>
            <a:ext cx="3108240" cy="3825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rcRect l="650" t="910" r="1693" b="0"/>
          <a:stretch/>
        </p:blipFill>
        <p:spPr>
          <a:xfrm>
            <a:off x="5491080" y="2995560"/>
            <a:ext cx="3110040" cy="34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put Substitution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52120" y="1292400"/>
            <a:ext cx="71852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33"/>
                </a:solidFill>
                <a:latin typeface="Arial"/>
              </a:rPr>
              <a:t>Banks Using More ATMs at the Expense of Human Teller Jobs</a:t>
            </a:r>
            <a:endParaRPr b="1" lang="en-US" sz="2900" spc="-1" strike="noStrike">
              <a:solidFill>
                <a:srgbClr val="990033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33"/>
                </a:solidFill>
                <a:latin typeface="Arial"/>
              </a:rPr>
              <a:t>Consistency With Least-Cost Combination of Resources</a:t>
            </a:r>
            <a:endParaRPr b="1" lang="en-US" sz="2900" spc="-1" strike="noStrike">
              <a:solidFill>
                <a:srgbClr val="990033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33"/>
                </a:solidFill>
                <a:latin typeface="Arial"/>
              </a:rPr>
              <a:t>ATMs Debut About 35 Years Ago</a:t>
            </a:r>
            <a:endParaRPr b="1" lang="en-US" sz="2900" spc="-1" strike="noStrike">
              <a:solidFill>
                <a:srgbClr val="990033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33"/>
                </a:solidFill>
                <a:latin typeface="Arial"/>
              </a:rPr>
              <a:t>Today Nearly 400,000 Perform About 11 Billion U.S. Transactions</a:t>
            </a:r>
            <a:endParaRPr b="1" lang="en-US" sz="2900" spc="-1" strike="noStrike">
              <a:solidFill>
                <a:srgbClr val="990033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33"/>
                </a:solidFill>
                <a:latin typeface="Arial"/>
              </a:rPr>
              <a:t>80,000 Human Tellers Eliminated Between 1990 and 2000</a:t>
            </a:r>
            <a:endParaRPr b="1" lang="en-US" sz="2900" spc="-1" strike="noStrike">
              <a:solidFill>
                <a:srgbClr val="990033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33"/>
                </a:solidFill>
                <a:latin typeface="Arial"/>
              </a:rPr>
              <a:t>Bank Customers Gain Convenience of More Locations While Labor is “Freed-Up” for Other Possibly Better Positions Since Teller Turnover is about 50%</a:t>
            </a:r>
            <a:endParaRPr b="1" lang="en-US" sz="29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20204400">
            <a:off x="1620720" y="620280"/>
            <a:ext cx="1325520" cy="9860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81600" y="687240"/>
            <a:ext cx="457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The Case of AT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1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725480" y="828720"/>
            <a:ext cx="7108920" cy="5692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b001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52120" y="912960"/>
            <a:ext cx="690876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derived demand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marginal product (MP)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marginal revenue product (MRP)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marginal resource cost (MRC)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substitution effect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output effect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elasticity of resource demand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least-cost combination of resources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profit maximizing combination of resources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marginal productivity theory of income distribution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Arial"/>
              </a:rPr>
              <a:t>Next Chapter Preview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419720" y="4213080"/>
            <a:ext cx="414468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apter 26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4" name=""/>
          <p:cNvSpPr/>
          <p:nvPr/>
        </p:nvSpPr>
        <p:spPr>
          <a:xfrm>
            <a:off x="1873080" y="3319560"/>
            <a:ext cx="53042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3"/>
          <a:srcRect l="0" t="0" r="805" b="0"/>
          <a:stretch/>
        </p:blipFill>
        <p:spPr>
          <a:xfrm>
            <a:off x="4513320" y="925560"/>
            <a:ext cx="3927240" cy="31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96680" y="777960"/>
            <a:ext cx="7265880" cy="59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Significance of Resource Pricing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How the Marginal Revenue Productivity of a Resource Relates to a Firm’s Demand for that Resourc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Factors that Increase or Decrease Resource Demand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Determinants of Elasticity of Resource Demand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How a Competitive Firm Selects its Optimal Combination of Resource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63280" y="87480"/>
            <a:ext cx="721044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gnificance of Resource Pric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046160"/>
            <a:ext cx="7086600" cy="55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rial"/>
              </a:rPr>
              <a:t>Money-Income Determination</a:t>
            </a:r>
            <a:endParaRPr b="1" lang="en-US" sz="54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rial"/>
              </a:rPr>
              <a:t>Cost Minimization</a:t>
            </a:r>
            <a:endParaRPr b="1" lang="en-US" sz="54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rial"/>
              </a:rPr>
              <a:t>Resource Allocation</a:t>
            </a:r>
            <a:endParaRPr b="1" lang="en-US" sz="54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rial"/>
              </a:rPr>
              <a:t>Policy Issues</a:t>
            </a:r>
            <a:endParaRPr b="1" lang="en-US" sz="5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85880" y="87120"/>
            <a:ext cx="739152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ginal Productivity Theory of Resource De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1056960"/>
            <a:ext cx="708660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Resource Demand as a Derived Demand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arginal Revenue Product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Productivity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Marginal Product (MP)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Product Pric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Marginal Revenue Product (MRP)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85880" y="87120"/>
            <a:ext cx="739152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ginal Productivity Theory of Resource De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4080" y="1371600"/>
            <a:ext cx="71132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33"/>
                </a:solidFill>
                <a:latin typeface="Arial"/>
              </a:rPr>
              <a:t>Rule for Employing Resourc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990033"/>
                </a:solidFill>
                <a:latin typeface="Arial"/>
              </a:rPr>
              <a:t>MRP = M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39000" y="3174840"/>
            <a:ext cx="5860440" cy="940320"/>
            <a:chOff x="2439000" y="3174840"/>
            <a:chExt cx="5860440" cy="940320"/>
          </a:xfrm>
        </p:grpSpPr>
        <p:sp>
          <p:nvSpPr>
            <p:cNvPr id="70" name=""/>
            <p:cNvSpPr/>
            <p:nvPr/>
          </p:nvSpPr>
          <p:spPr>
            <a:xfrm>
              <a:off x="2439000" y="3174840"/>
              <a:ext cx="1131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53920" y="3412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98880" y="3654360"/>
              <a:ext cx="429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34200" y="3230280"/>
              <a:ext cx="32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nge in Total Reven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88800" y="3716280"/>
              <a:ext cx="431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t Change in Resource 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9360" y="5283360"/>
            <a:ext cx="5860440" cy="951480"/>
            <a:chOff x="2439360" y="5283360"/>
            <a:chExt cx="5860440" cy="951480"/>
          </a:xfrm>
        </p:grpSpPr>
        <p:sp>
          <p:nvSpPr>
            <p:cNvPr id="76" name=""/>
            <p:cNvSpPr/>
            <p:nvPr/>
          </p:nvSpPr>
          <p:spPr>
            <a:xfrm>
              <a:off x="2439360" y="5283360"/>
              <a:ext cx="122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87400" y="5543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8880" y="5774040"/>
              <a:ext cx="429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81320" y="5324760"/>
              <a:ext cx="412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nge in Total (Resource) 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89160" y="5835960"/>
              <a:ext cx="431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t Change in Resource 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886400" y="2479680"/>
            <a:ext cx="67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ginal Revenue Product  (M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86760" y="454356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ginal Resource Cost  (M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781760" y="1981080"/>
            <a:ext cx="514440" cy="278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63200" y="76320"/>
            <a:ext cx="7288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RP as Resource Deman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34760" y="663480"/>
            <a:ext cx="72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MRP as Resource Demand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67160" y="1182600"/>
            <a:ext cx="7201080" cy="703440"/>
            <a:chOff x="1667160" y="1182600"/>
            <a:chExt cx="7201080" cy="703440"/>
          </a:xfrm>
        </p:grpSpPr>
        <p:sp>
          <p:nvSpPr>
            <p:cNvPr id="87" name=""/>
            <p:cNvSpPr/>
            <p:nvPr/>
          </p:nvSpPr>
          <p:spPr>
            <a:xfrm>
              <a:off x="1706400" y="1182600"/>
              <a:ext cx="7113600" cy="70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67160" y="1227240"/>
              <a:ext cx="991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s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43400" y="1227240"/>
              <a:ext cx="13284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Outpu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83960" y="1227240"/>
              <a:ext cx="12888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(M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10840" y="1227240"/>
              <a:ext cx="8528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92400" y="1227240"/>
              <a:ext cx="14472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Revenu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2) X (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63640" y="1227240"/>
              <a:ext cx="17046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ginal Reven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(MR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983240" y="1900080"/>
            <a:ext cx="3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58120" y="1900080"/>
            <a:ext cx="4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59520" y="1941480"/>
            <a:ext cx="30708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25040" y="1900080"/>
            <a:ext cx="4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$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35920" y="1900080"/>
            <a:ext cx="49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14440" y="1919160"/>
            <a:ext cx="56016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59080" y="1952640"/>
            <a:ext cx="955800" cy="2082600"/>
            <a:chOff x="3259080" y="1952640"/>
            <a:chExt cx="955800" cy="2082600"/>
          </a:xfrm>
        </p:grpSpPr>
        <p:grpSp>
          <p:nvGrpSpPr>
            <p:cNvPr id="101" name=""/>
            <p:cNvGrpSpPr/>
            <p:nvPr/>
          </p:nvGrpSpPr>
          <p:grpSpPr>
            <a:xfrm>
              <a:off x="3259080" y="1952640"/>
              <a:ext cx="955800" cy="368280"/>
              <a:chOff x="3259080" y="1952640"/>
              <a:chExt cx="955800" cy="368280"/>
            </a:xfrm>
          </p:grpSpPr>
          <p:sp>
            <p:nvSpPr>
              <p:cNvPr id="102" name=""/>
              <p:cNvSpPr/>
              <p:nvPr/>
            </p:nvSpPr>
            <p:spPr>
              <a:xfrm>
                <a:off x="3259080" y="19526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00560" y="21524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259080" y="2238120"/>
              <a:ext cx="955800" cy="368280"/>
              <a:chOff x="3259080" y="2238120"/>
              <a:chExt cx="955800" cy="368280"/>
            </a:xfrm>
          </p:grpSpPr>
          <p:sp>
            <p:nvSpPr>
              <p:cNvPr id="105" name=""/>
              <p:cNvSpPr/>
              <p:nvPr/>
            </p:nvSpPr>
            <p:spPr>
              <a:xfrm>
                <a:off x="3259080" y="22381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00560" y="24379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259080" y="2523960"/>
              <a:ext cx="955800" cy="368280"/>
              <a:chOff x="3259080" y="2523960"/>
              <a:chExt cx="955800" cy="368280"/>
            </a:xfrm>
          </p:grpSpPr>
          <p:sp>
            <p:nvSpPr>
              <p:cNvPr id="108" name=""/>
              <p:cNvSpPr/>
              <p:nvPr/>
            </p:nvSpPr>
            <p:spPr>
              <a:xfrm>
                <a:off x="3259080" y="25239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400560" y="27237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259080" y="2809800"/>
              <a:ext cx="955800" cy="368280"/>
              <a:chOff x="3259080" y="2809800"/>
              <a:chExt cx="955800" cy="368280"/>
            </a:xfrm>
          </p:grpSpPr>
          <p:sp>
            <p:nvSpPr>
              <p:cNvPr id="111" name=""/>
              <p:cNvSpPr/>
              <p:nvPr/>
            </p:nvSpPr>
            <p:spPr>
              <a:xfrm>
                <a:off x="3259080" y="28098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00560" y="300960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259080" y="3095640"/>
              <a:ext cx="955800" cy="368280"/>
              <a:chOff x="3259080" y="3095640"/>
              <a:chExt cx="955800" cy="368280"/>
            </a:xfrm>
          </p:grpSpPr>
          <p:sp>
            <p:nvSpPr>
              <p:cNvPr id="114" name=""/>
              <p:cNvSpPr/>
              <p:nvPr/>
            </p:nvSpPr>
            <p:spPr>
              <a:xfrm>
                <a:off x="3259080" y="30956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400560" y="32954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259080" y="3381120"/>
              <a:ext cx="955800" cy="368280"/>
              <a:chOff x="3259080" y="3381120"/>
              <a:chExt cx="955800" cy="368280"/>
            </a:xfrm>
          </p:grpSpPr>
          <p:sp>
            <p:nvSpPr>
              <p:cNvPr id="117" name=""/>
              <p:cNvSpPr/>
              <p:nvPr/>
            </p:nvSpPr>
            <p:spPr>
              <a:xfrm>
                <a:off x="3259080" y="33811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400560" y="35809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3259080" y="3666960"/>
              <a:ext cx="955800" cy="368280"/>
              <a:chOff x="3259080" y="3666960"/>
              <a:chExt cx="955800" cy="368280"/>
            </a:xfrm>
          </p:grpSpPr>
          <p:sp>
            <p:nvSpPr>
              <p:cNvPr id="120" name=""/>
              <p:cNvSpPr/>
              <p:nvPr/>
            </p:nvSpPr>
            <p:spPr>
              <a:xfrm>
                <a:off x="3259080" y="36669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400560" y="38667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6678360" y="1938240"/>
            <a:ext cx="955800" cy="2082600"/>
            <a:chOff x="6678360" y="1938240"/>
            <a:chExt cx="955800" cy="2082600"/>
          </a:xfrm>
        </p:grpSpPr>
        <p:grpSp>
          <p:nvGrpSpPr>
            <p:cNvPr id="123" name=""/>
            <p:cNvGrpSpPr/>
            <p:nvPr/>
          </p:nvGrpSpPr>
          <p:grpSpPr>
            <a:xfrm>
              <a:off x="6678360" y="1938240"/>
              <a:ext cx="955800" cy="368280"/>
              <a:chOff x="6678360" y="1938240"/>
              <a:chExt cx="955800" cy="368280"/>
            </a:xfrm>
          </p:grpSpPr>
          <p:sp>
            <p:nvSpPr>
              <p:cNvPr id="124" name=""/>
              <p:cNvSpPr/>
              <p:nvPr/>
            </p:nvSpPr>
            <p:spPr>
              <a:xfrm>
                <a:off x="6678360" y="19382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19840" y="21380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6678360" y="2223720"/>
              <a:ext cx="955800" cy="368280"/>
              <a:chOff x="6678360" y="2223720"/>
              <a:chExt cx="955800" cy="368280"/>
            </a:xfrm>
          </p:grpSpPr>
          <p:sp>
            <p:nvSpPr>
              <p:cNvPr id="127" name=""/>
              <p:cNvSpPr/>
              <p:nvPr/>
            </p:nvSpPr>
            <p:spPr>
              <a:xfrm>
                <a:off x="6678360" y="22237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819840" y="24235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678360" y="2509560"/>
              <a:ext cx="955800" cy="368280"/>
              <a:chOff x="6678360" y="2509560"/>
              <a:chExt cx="955800" cy="368280"/>
            </a:xfrm>
          </p:grpSpPr>
          <p:sp>
            <p:nvSpPr>
              <p:cNvPr id="130" name=""/>
              <p:cNvSpPr/>
              <p:nvPr/>
            </p:nvSpPr>
            <p:spPr>
              <a:xfrm>
                <a:off x="6678360" y="25095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819840" y="27093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678360" y="2795400"/>
              <a:ext cx="955800" cy="368280"/>
              <a:chOff x="6678360" y="2795400"/>
              <a:chExt cx="955800" cy="36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6678360" y="27954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19840" y="299520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678360" y="3081240"/>
              <a:ext cx="955800" cy="368280"/>
              <a:chOff x="6678360" y="3081240"/>
              <a:chExt cx="955800" cy="36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6678360" y="30812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819840" y="32810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678360" y="3366720"/>
              <a:ext cx="955800" cy="368280"/>
              <a:chOff x="6678360" y="3366720"/>
              <a:chExt cx="955800" cy="36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6678360" y="33667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19840" y="35665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678360" y="3652560"/>
              <a:ext cx="955800" cy="368280"/>
              <a:chOff x="6678360" y="3652560"/>
              <a:chExt cx="955800" cy="36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6678360" y="36525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819840" y="38523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4168800" y="4137120"/>
            <a:ext cx="2254320" cy="2252520"/>
            <a:chOff x="4168800" y="4137120"/>
            <a:chExt cx="2254320" cy="2252520"/>
          </a:xfrm>
        </p:grpSpPr>
        <p:sp>
          <p:nvSpPr>
            <p:cNvPr id="145" name=""/>
            <p:cNvSpPr/>
            <p:nvPr/>
          </p:nvSpPr>
          <p:spPr>
            <a:xfrm>
              <a:off x="4170240" y="4137120"/>
              <a:ext cx="2252880" cy="2252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438800" y="4140360"/>
              <a:ext cx="1695240" cy="2247840"/>
              <a:chOff x="4438800" y="4140360"/>
              <a:chExt cx="1695240" cy="2247840"/>
            </a:xfrm>
          </p:grpSpPr>
          <p:sp>
            <p:nvSpPr>
              <p:cNvPr id="147" name=""/>
              <p:cNvSpPr/>
              <p:nvPr/>
            </p:nvSpPr>
            <p:spPr>
              <a:xfrm>
                <a:off x="443880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72428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1012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9596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58180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5468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3404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68800" y="4338720"/>
              <a:ext cx="2247840" cy="1854000"/>
              <a:chOff x="4168800" y="4338720"/>
              <a:chExt cx="2247840" cy="1854000"/>
            </a:xfrm>
          </p:grpSpPr>
          <p:sp>
            <p:nvSpPr>
              <p:cNvPr id="155" name=""/>
              <p:cNvSpPr/>
              <p:nvPr/>
            </p:nvSpPr>
            <p:spPr>
              <a:xfrm>
                <a:off x="4168800" y="6192720"/>
                <a:ext cx="224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8800" y="598284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68800" y="577440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68800" y="55645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68800" y="53560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168800" y="51544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168800" y="4950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168800" y="4743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68800" y="45424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168800" y="4338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4316400" y="6141960"/>
            <a:ext cx="1946520" cy="231120"/>
            <a:chOff x="4316400" y="6141960"/>
            <a:chExt cx="1946520" cy="231120"/>
          </a:xfrm>
        </p:grpSpPr>
        <p:sp>
          <p:nvSpPr>
            <p:cNvPr id="166" name=""/>
            <p:cNvSpPr/>
            <p:nvPr/>
          </p:nvSpPr>
          <p:spPr>
            <a:xfrm>
              <a:off x="431640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0188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8772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7356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5940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4488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812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845880" y="4224240"/>
            <a:ext cx="372600" cy="2275920"/>
            <a:chOff x="3845880" y="4224240"/>
            <a:chExt cx="372600" cy="2275920"/>
          </a:xfrm>
        </p:grpSpPr>
        <p:sp>
          <p:nvSpPr>
            <p:cNvPr id="174" name=""/>
            <p:cNvSpPr/>
            <p:nvPr/>
          </p:nvSpPr>
          <p:spPr>
            <a:xfrm>
              <a:off x="3973320" y="6072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35160" y="6269040"/>
              <a:ext cx="28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73320" y="5869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73320" y="5665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73320" y="54626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73320" y="5259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9600" y="505620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09600" y="485316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9600" y="464976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09600" y="444672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45880" y="422424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$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 rot="16200000">
            <a:off x="3139200" y="5098680"/>
            <a:ext cx="1128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ource W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age R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4520" y="6377040"/>
            <a:ext cx="214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ntity of Resource Deman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41880" y="4686480"/>
            <a:ext cx="1898640" cy="13968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73560" y="46990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46440" y="4902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32280" y="5105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531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7480" y="55245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76840" y="5727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56200" y="5937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55400" y="572292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M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0800000">
            <a:off x="6585120" y="4457520"/>
            <a:ext cx="1707840" cy="1284120"/>
          </a:xfrm>
          <a:custGeom>
            <a:avLst/>
            <a:gdLst>
              <a:gd name="textAreaLeft" fmla="*/ 0 w 1707840"/>
              <a:gd name="textAreaRight" fmla="*/ 1708200 w 1707840"/>
              <a:gd name="textAreaTop" fmla="*/ 0 h 1284120"/>
              <a:gd name="textAreaBottom" fmla="*/ 1284480 h 1284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50" stAng="10800000" swAng="5400000"/>
                <a:lnTo>
                  <a:pt x="15698" y="2910"/>
                </a:lnTo>
                <a:lnTo>
                  <a:pt x="15698" y="0"/>
                </a:lnTo>
                <a:lnTo>
                  <a:pt x="21600" y="6079"/>
                </a:lnTo>
                <a:lnTo>
                  <a:pt x="15698" y="12158"/>
                </a:lnTo>
                <a:lnTo>
                  <a:pt x="15698" y="9248"/>
                </a:lnTo>
                <a:lnTo>
                  <a:pt x="12427" y="9248"/>
                </a:lnTo>
                <a:arcTo wR="6089" hR="2912" stAng="16200000" swAng="-5400000"/>
                <a:lnTo>
                  <a:pt x="6338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47720" y="4560840"/>
            <a:ext cx="19256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Pu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Seller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Dema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682040" y="1981080"/>
            <a:ext cx="787320" cy="2786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63200" y="76320"/>
            <a:ext cx="7288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RP as Resource Deman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34760" y="663480"/>
            <a:ext cx="72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MRP as Resource Demand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667160" y="1182600"/>
            <a:ext cx="7201080" cy="703440"/>
            <a:chOff x="1667160" y="1182600"/>
            <a:chExt cx="7201080" cy="703440"/>
          </a:xfrm>
        </p:grpSpPr>
        <p:sp>
          <p:nvSpPr>
            <p:cNvPr id="202" name=""/>
            <p:cNvSpPr/>
            <p:nvPr/>
          </p:nvSpPr>
          <p:spPr>
            <a:xfrm>
              <a:off x="1706400" y="1182600"/>
              <a:ext cx="7113600" cy="70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67160" y="1227240"/>
              <a:ext cx="991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s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43400" y="1227240"/>
              <a:ext cx="13284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Outpu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83960" y="1227240"/>
              <a:ext cx="12888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(M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10840" y="1227240"/>
              <a:ext cx="8528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92400" y="1227240"/>
              <a:ext cx="14472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Revenu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2) X (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3640" y="1227240"/>
              <a:ext cx="17046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ginal Reven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(MR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983240" y="1900080"/>
            <a:ext cx="3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58120" y="1900080"/>
            <a:ext cx="4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59520" y="1941480"/>
            <a:ext cx="30708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19120" y="1900080"/>
            <a:ext cx="75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$2.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.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.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55040" y="190008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.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19400" y="1919160"/>
            <a:ext cx="87732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8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259080" y="1952640"/>
            <a:ext cx="955800" cy="2082600"/>
            <a:chOff x="3259080" y="1952640"/>
            <a:chExt cx="955800" cy="2082600"/>
          </a:xfrm>
        </p:grpSpPr>
        <p:grpSp>
          <p:nvGrpSpPr>
            <p:cNvPr id="216" name=""/>
            <p:cNvGrpSpPr/>
            <p:nvPr/>
          </p:nvGrpSpPr>
          <p:grpSpPr>
            <a:xfrm>
              <a:off x="3259080" y="1952640"/>
              <a:ext cx="955800" cy="368280"/>
              <a:chOff x="3259080" y="1952640"/>
              <a:chExt cx="955800" cy="368280"/>
            </a:xfrm>
          </p:grpSpPr>
          <p:sp>
            <p:nvSpPr>
              <p:cNvPr id="217" name=""/>
              <p:cNvSpPr/>
              <p:nvPr/>
            </p:nvSpPr>
            <p:spPr>
              <a:xfrm>
                <a:off x="3259080" y="19526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400560" y="21524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3259080" y="2238120"/>
              <a:ext cx="955800" cy="368280"/>
              <a:chOff x="3259080" y="2238120"/>
              <a:chExt cx="955800" cy="36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3259080" y="22381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00560" y="24379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259080" y="2523960"/>
              <a:ext cx="955800" cy="368280"/>
              <a:chOff x="3259080" y="2523960"/>
              <a:chExt cx="955800" cy="368280"/>
            </a:xfrm>
          </p:grpSpPr>
          <p:sp>
            <p:nvSpPr>
              <p:cNvPr id="223" name=""/>
              <p:cNvSpPr/>
              <p:nvPr/>
            </p:nvSpPr>
            <p:spPr>
              <a:xfrm>
                <a:off x="3259080" y="25239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400560" y="27237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259080" y="2809800"/>
              <a:ext cx="955800" cy="368280"/>
              <a:chOff x="3259080" y="2809800"/>
              <a:chExt cx="955800" cy="368280"/>
            </a:xfrm>
          </p:grpSpPr>
          <p:sp>
            <p:nvSpPr>
              <p:cNvPr id="226" name=""/>
              <p:cNvSpPr/>
              <p:nvPr/>
            </p:nvSpPr>
            <p:spPr>
              <a:xfrm>
                <a:off x="3259080" y="28098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400560" y="300960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259080" y="3095640"/>
              <a:ext cx="955800" cy="368280"/>
              <a:chOff x="3259080" y="3095640"/>
              <a:chExt cx="955800" cy="368280"/>
            </a:xfrm>
          </p:grpSpPr>
          <p:sp>
            <p:nvSpPr>
              <p:cNvPr id="229" name=""/>
              <p:cNvSpPr/>
              <p:nvPr/>
            </p:nvSpPr>
            <p:spPr>
              <a:xfrm>
                <a:off x="3259080" y="30956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400560" y="32954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259080" y="3381120"/>
              <a:ext cx="955800" cy="368280"/>
              <a:chOff x="3259080" y="3381120"/>
              <a:chExt cx="955800" cy="368280"/>
            </a:xfrm>
          </p:grpSpPr>
          <p:sp>
            <p:nvSpPr>
              <p:cNvPr id="232" name=""/>
              <p:cNvSpPr/>
              <p:nvPr/>
            </p:nvSpPr>
            <p:spPr>
              <a:xfrm>
                <a:off x="3259080" y="33811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400560" y="35809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259080" y="3666960"/>
              <a:ext cx="955800" cy="368280"/>
              <a:chOff x="3259080" y="3666960"/>
              <a:chExt cx="955800" cy="368280"/>
            </a:xfrm>
          </p:grpSpPr>
          <p:sp>
            <p:nvSpPr>
              <p:cNvPr id="235" name=""/>
              <p:cNvSpPr/>
              <p:nvPr/>
            </p:nvSpPr>
            <p:spPr>
              <a:xfrm>
                <a:off x="3259080" y="36669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400560" y="38667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6678360" y="1938240"/>
            <a:ext cx="955800" cy="2082600"/>
            <a:chOff x="6678360" y="1938240"/>
            <a:chExt cx="955800" cy="2082600"/>
          </a:xfrm>
        </p:grpSpPr>
        <p:grpSp>
          <p:nvGrpSpPr>
            <p:cNvPr id="238" name=""/>
            <p:cNvGrpSpPr/>
            <p:nvPr/>
          </p:nvGrpSpPr>
          <p:grpSpPr>
            <a:xfrm>
              <a:off x="6678360" y="1938240"/>
              <a:ext cx="955800" cy="368280"/>
              <a:chOff x="6678360" y="1938240"/>
              <a:chExt cx="955800" cy="368280"/>
            </a:xfrm>
          </p:grpSpPr>
          <p:sp>
            <p:nvSpPr>
              <p:cNvPr id="239" name=""/>
              <p:cNvSpPr/>
              <p:nvPr/>
            </p:nvSpPr>
            <p:spPr>
              <a:xfrm>
                <a:off x="6678360" y="19382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9840" y="21380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6678360" y="2223720"/>
              <a:ext cx="955800" cy="368280"/>
              <a:chOff x="6678360" y="2223720"/>
              <a:chExt cx="955800" cy="368280"/>
            </a:xfrm>
          </p:grpSpPr>
          <p:sp>
            <p:nvSpPr>
              <p:cNvPr id="242" name=""/>
              <p:cNvSpPr/>
              <p:nvPr/>
            </p:nvSpPr>
            <p:spPr>
              <a:xfrm>
                <a:off x="6678360" y="22237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819840" y="24235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678360" y="2509560"/>
              <a:ext cx="955800" cy="368280"/>
              <a:chOff x="6678360" y="2509560"/>
              <a:chExt cx="955800" cy="368280"/>
            </a:xfrm>
          </p:grpSpPr>
          <p:sp>
            <p:nvSpPr>
              <p:cNvPr id="245" name=""/>
              <p:cNvSpPr/>
              <p:nvPr/>
            </p:nvSpPr>
            <p:spPr>
              <a:xfrm>
                <a:off x="6678360" y="25095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819840" y="27093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678360" y="2795400"/>
              <a:ext cx="955800" cy="368280"/>
              <a:chOff x="6678360" y="2795400"/>
              <a:chExt cx="955800" cy="368280"/>
            </a:xfrm>
          </p:grpSpPr>
          <p:sp>
            <p:nvSpPr>
              <p:cNvPr id="248" name=""/>
              <p:cNvSpPr/>
              <p:nvPr/>
            </p:nvSpPr>
            <p:spPr>
              <a:xfrm>
                <a:off x="6678360" y="27954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819840" y="299520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678360" y="3081240"/>
              <a:ext cx="955800" cy="368280"/>
              <a:chOff x="6678360" y="3081240"/>
              <a:chExt cx="955800" cy="368280"/>
            </a:xfrm>
          </p:grpSpPr>
          <p:sp>
            <p:nvSpPr>
              <p:cNvPr id="251" name=""/>
              <p:cNvSpPr/>
              <p:nvPr/>
            </p:nvSpPr>
            <p:spPr>
              <a:xfrm>
                <a:off x="6678360" y="30812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819840" y="32810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6678360" y="3366720"/>
              <a:ext cx="955800" cy="368280"/>
              <a:chOff x="6678360" y="3366720"/>
              <a:chExt cx="955800" cy="368280"/>
            </a:xfrm>
          </p:grpSpPr>
          <p:sp>
            <p:nvSpPr>
              <p:cNvPr id="254" name=""/>
              <p:cNvSpPr/>
              <p:nvPr/>
            </p:nvSpPr>
            <p:spPr>
              <a:xfrm>
                <a:off x="6678360" y="33667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19840" y="35665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678360" y="3652560"/>
              <a:ext cx="955800" cy="368280"/>
              <a:chOff x="6678360" y="3652560"/>
              <a:chExt cx="955800" cy="368280"/>
            </a:xfrm>
          </p:grpSpPr>
          <p:sp>
            <p:nvSpPr>
              <p:cNvPr id="257" name=""/>
              <p:cNvSpPr/>
              <p:nvPr/>
            </p:nvSpPr>
            <p:spPr>
              <a:xfrm>
                <a:off x="6678360" y="36525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819840" y="38523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4168800" y="4137120"/>
            <a:ext cx="2254320" cy="2252520"/>
            <a:chOff x="4168800" y="4137120"/>
            <a:chExt cx="2254320" cy="2252520"/>
          </a:xfrm>
        </p:grpSpPr>
        <p:sp>
          <p:nvSpPr>
            <p:cNvPr id="260" name=""/>
            <p:cNvSpPr/>
            <p:nvPr/>
          </p:nvSpPr>
          <p:spPr>
            <a:xfrm>
              <a:off x="4170240" y="4137120"/>
              <a:ext cx="2252880" cy="2252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438800" y="4140360"/>
              <a:ext cx="1695240" cy="2247840"/>
              <a:chOff x="4438800" y="4140360"/>
              <a:chExt cx="1695240" cy="2247840"/>
            </a:xfrm>
          </p:grpSpPr>
          <p:sp>
            <p:nvSpPr>
              <p:cNvPr id="262" name=""/>
              <p:cNvSpPr/>
              <p:nvPr/>
            </p:nvSpPr>
            <p:spPr>
              <a:xfrm>
                <a:off x="443880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72428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01012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9596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58180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85468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3404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168800" y="4338720"/>
              <a:ext cx="2247840" cy="1854000"/>
              <a:chOff x="4168800" y="4338720"/>
              <a:chExt cx="2247840" cy="1854000"/>
            </a:xfrm>
          </p:grpSpPr>
          <p:sp>
            <p:nvSpPr>
              <p:cNvPr id="270" name=""/>
              <p:cNvSpPr/>
              <p:nvPr/>
            </p:nvSpPr>
            <p:spPr>
              <a:xfrm>
                <a:off x="4168800" y="6192720"/>
                <a:ext cx="224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168800" y="598284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68800" y="577440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68800" y="55645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68800" y="53560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168800" y="51544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168800" y="4950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168800" y="4743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168800" y="45424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168800" y="4338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4316400" y="6141960"/>
            <a:ext cx="1946520" cy="231120"/>
            <a:chOff x="4316400" y="6141960"/>
            <a:chExt cx="1946520" cy="231120"/>
          </a:xfrm>
        </p:grpSpPr>
        <p:sp>
          <p:nvSpPr>
            <p:cNvPr id="281" name=""/>
            <p:cNvSpPr/>
            <p:nvPr/>
          </p:nvSpPr>
          <p:spPr>
            <a:xfrm>
              <a:off x="431640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0188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8772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7356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5940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4488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812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845880" y="4224240"/>
            <a:ext cx="372600" cy="2275920"/>
            <a:chOff x="3845880" y="4224240"/>
            <a:chExt cx="372600" cy="2275920"/>
          </a:xfrm>
        </p:grpSpPr>
        <p:sp>
          <p:nvSpPr>
            <p:cNvPr id="289" name=""/>
            <p:cNvSpPr/>
            <p:nvPr/>
          </p:nvSpPr>
          <p:spPr>
            <a:xfrm>
              <a:off x="3973320" y="6072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35160" y="6269040"/>
              <a:ext cx="28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3320" y="5869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73320" y="5665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73320" y="54626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73320" y="5259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09600" y="505620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9600" y="485316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09600" y="464976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9600" y="444672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5880" y="422424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$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 rot="16200000">
            <a:off x="3139200" y="5098680"/>
            <a:ext cx="1128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ource W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age R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6377040"/>
            <a:ext cx="214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ntity of Resource Deman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41880" y="4686480"/>
            <a:ext cx="1898640" cy="1396800"/>
          </a:xfrm>
          <a:prstGeom prst="line">
            <a:avLst/>
          </a:prstGeom>
          <a:ln w="3816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47560" y="4757760"/>
            <a:ext cx="13222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M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ure Competi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6490800" y="4219560"/>
            <a:ext cx="1979640" cy="16416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641600"/>
              <a:gd name="textAreaBottom" fmla="*/ 1641960 h 164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279" stAng="10800000" swAng="5400000"/>
                <a:lnTo>
                  <a:pt x="16099" y="1881"/>
                </a:lnTo>
                <a:lnTo>
                  <a:pt x="16099" y="0"/>
                </a:lnTo>
                <a:lnTo>
                  <a:pt x="21600" y="6079"/>
                </a:lnTo>
                <a:lnTo>
                  <a:pt x="16099" y="12158"/>
                </a:lnTo>
                <a:lnTo>
                  <a:pt x="16099" y="10277"/>
                </a:lnTo>
                <a:lnTo>
                  <a:pt x="12427" y="10277"/>
                </a:lnTo>
                <a:arcTo wR="4031" hR="1883" stAng="16200000" swAng="-5400000"/>
                <a:lnTo>
                  <a:pt x="8396" y="216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47720" y="4560840"/>
            <a:ext cx="19256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Imperf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Seller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Dema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86160" y="4241880"/>
            <a:ext cx="1790640" cy="2127240"/>
          </a:xfrm>
          <a:custGeom>
            <a:avLst/>
            <a:gdLst/>
            <a:ahLst/>
            <a:rect l="l" t="t" r="r" b="b"/>
            <a:pathLst>
              <a:path w="1128" h="1340">
                <a:moveTo>
                  <a:pt x="0" y="0"/>
                </a:moveTo>
                <a:cubicBezTo>
                  <a:pt x="65" y="138"/>
                  <a:pt x="131" y="276"/>
                  <a:pt x="192" y="384"/>
                </a:cubicBezTo>
                <a:cubicBezTo>
                  <a:pt x="253" y="492"/>
                  <a:pt x="307" y="553"/>
                  <a:pt x="368" y="648"/>
                </a:cubicBezTo>
                <a:cubicBezTo>
                  <a:pt x="429" y="743"/>
                  <a:pt x="500" y="885"/>
                  <a:pt x="560" y="956"/>
                </a:cubicBezTo>
                <a:cubicBezTo>
                  <a:pt x="620" y="1027"/>
                  <a:pt x="670" y="1038"/>
                  <a:pt x="728" y="1072"/>
                </a:cubicBezTo>
                <a:cubicBezTo>
                  <a:pt x="786" y="1106"/>
                  <a:pt x="841" y="1115"/>
                  <a:pt x="908" y="1160"/>
                </a:cubicBezTo>
                <a:cubicBezTo>
                  <a:pt x="975" y="1205"/>
                  <a:pt x="1051" y="1272"/>
                  <a:pt x="1128" y="1340"/>
                </a:cubicBezTo>
              </a:path>
            </a:pathLst>
          </a:custGeom>
          <a:noFill/>
          <a:ln w="381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26320" y="5608800"/>
            <a:ext cx="96408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M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mperf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eti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635360" y="5429160"/>
            <a:ext cx="298440" cy="177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213520" y="5086440"/>
            <a:ext cx="272880" cy="260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083440" y="5916600"/>
            <a:ext cx="746280" cy="710280"/>
            <a:chOff x="8083440" y="5916600"/>
            <a:chExt cx="746280" cy="710280"/>
          </a:xfrm>
        </p:grpSpPr>
        <p:pic>
          <p:nvPicPr>
            <p:cNvPr id="311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172360" y="5916600"/>
              <a:ext cx="519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>
              <a:hlinkClick r:id="rId3"/>
            </p:cNvPr>
            <p:cNvSpPr/>
            <p:nvPr/>
          </p:nvSpPr>
          <p:spPr>
            <a:xfrm>
              <a:off x="8083440" y="631980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 25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282920" y="4292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41760" y="4800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27600" y="52322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18120" y="5695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97480" y="59040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676840" y="6043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956200" y="625968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5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90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44480" y="75960"/>
            <a:ext cx="734544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arket Demand for a Resourc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752120" y="904680"/>
            <a:ext cx="70866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Determinants of Resource Demand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hanges in Product Demand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hanges in Productivity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Quantities of Other Resource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echnological Advanc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Quality of Variable Resource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44480" y="75960"/>
            <a:ext cx="734544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arket Demand for a Resourc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52120" y="904680"/>
            <a:ext cx="70866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Changes in the Prices of Other Resources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Substitute Resource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Substitution Effec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Output Effec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t Effec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omplementary Resource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indefinite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3:07:32Z</dcterms:created>
  <dc:creator>C. Norman Hollingsworth</dc:creator>
  <dc:description/>
  <dc:language>en-US</dc:language>
  <cp:lastModifiedBy>MHE</cp:lastModifiedBy>
  <dcterms:modified xsi:type="dcterms:W3CDTF">2006-10-11T19:05:23Z</dcterms:modified>
  <cp:revision>138</cp:revision>
  <dc:subject>McConnell-Brue Economics</dc:subject>
  <dc:title>Chapter 25</dc:title>
</cp:coreProperties>
</file>